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3D159-3958-4455-B97F-185256FC3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E5C2A-7E8D-4459-A251-4E1ECCE7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6A8B8-1051-4E17-A75A-6C77B6BC5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AF264-D550-436E-A370-05F62C57A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73836-80EE-4150-8751-E81BCDC44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A4C96-FFF7-4C56-9A76-69CBFFAF9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4ED06-226D-483A-9790-E7329FD87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7411E-13CA-44B5-B0D6-CF3726A26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EC195-BF27-4B61-B461-BE51AF3F8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B7CEB-C0FC-4561-BE6C-927C1158D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08549-F362-41D1-A20D-D33E83573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26CD5-BBBC-4354-A5B9-A1F829983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ffffff">
              <a:alpha val="7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solidFill>
            <a:srgbClr val="ffffff">
              <a:alpha val="71000"/>
            </a:srgbClr>
          </a:solid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EB7D-7098-4094-BFD5-17083A6050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solidFill>
            <a:srgbClr val="ffffff">
              <a:alpha val="7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1 Trench video di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ffffff">
              <a:alpha val="71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 your scr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ffffff">
              <a:alpha val="7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s to remember</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solidFill>
            <a:srgbClr val="ffffff">
              <a:alpha val="71000"/>
            </a:srgbClr>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script must be hand written in your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hould reflect the research that is also written in your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try and include ‘actions’ such as pauses, emphasis etc in your dra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ffffff">
              <a:alpha val="7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572000"/>
          </a:xfrm>
          <a:prstGeom prst="rect">
            <a:avLst/>
          </a:prstGeom>
          <a:solidFill>
            <a:srgbClr val="ffffff">
              <a:alpha val="71000"/>
            </a:srgbClr>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ecide where and when your diary is being filmed: what exact time and date? Write this dow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decide upon the main things you want to include in your script and the order in which you will include them, use the script checklist at the Wiki to help you. Bullet point these main things in the correct or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ffffff">
              <a:alpha val="7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solidFill>
            <a:srgbClr val="ffffff">
              <a:alpha val="71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r speech, paying special attention to inclusion of specific details, keywords and creating an ‘authentic’ exper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end of the lesson you should be in a position to film your diary for ho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lwich</cp:lastModifiedBy>
  <dcterms:modified xsi:type="dcterms:W3CDTF">2007-11-22T06:17:46Z</dcterms:modified>
  <cp:revision>1</cp:revision>
  <dc:subject/>
  <dc:title>WW1 Trench video diary</dc:title>
</cp:coreProperties>
</file>